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679-D648-4BFD-B38E-83801785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B29-9BB2-49C6-82A1-C790F4B3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BC0-9371-4BB9-888A-A24FFB3A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7FD-0F9E-43E4-A06A-110E5C46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3A8-0FA5-42F2-8D64-8BE4B349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190-1EFC-407B-BB54-9EC9358E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F6A-E5A4-4CDE-AB11-BC2D094B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805-7D05-499A-A486-2E415288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A47-FF45-4434-A921-69476F3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074-1448-4C51-BFAB-17045242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6E7-3B7B-4147-9508-4E88C12D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237-F58B-4545-B112-7A7DB06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05EB-DCEA-4793-AEE5-4B717D72B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égies de recherche de documents administratif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ut-on tout trouv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lvie Bonnissent, secrétariat général du gouvernement, service de documentation 30/1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érer des s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epérer des expert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Yves Barros,n°213 (avril 2008) - archim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8000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4259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6:26:38Z</dcterms:created>
  <dc:creator>SPM</dc:creator>
  <dc:description/>
  <dc:language>en-US</dc:language>
  <cp:lastModifiedBy>SPM</cp:lastModifiedBy>
  <dcterms:modified xsi:type="dcterms:W3CDTF">2010-11-29T15:13:20Z</dcterms:modified>
  <cp:revision>11</cp:revision>
  <dc:subject/>
  <dc:title>Stratégies de recherche de documents administratifs</dc:title>
</cp:coreProperties>
</file>