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2687-4DEA-40AE-BB10-DFBAF1C4D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9B85-6E5A-4789-A115-D7D64DDBC4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D80B-8EA1-4A28-82AC-20C4AECC7D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B9D8-06BA-4990-B25C-8D31285D8B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80B6-B93A-4133-A4E5-9497C0ACBA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96FA-BA80-4873-9BBA-7282247894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B13A-42F3-406A-B9E7-4033CB2A0F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300D-4D8C-4837-B4D4-85F36888C8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65E0-1CDA-42A5-B372-9746F93F9E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8FD1-C7E1-4B4E-9DF9-4A4573E364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A33D-9AF0-49F2-9330-3757D3B5DE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7F7FC-65EB-436C-B4AB-7EC4EAD1A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2918-00F1-40F2-B582-47166D6A72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9532D-0820-4CD7-B6DC-4E1B96BA01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BA255-5346-484B-8778-BF0CE8B6D9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C06CD-5C5C-4A0A-A7B5-D1A729EAB8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F9AFD-8763-40A1-A0BB-AB0037FBA31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BC73D-11ED-414E-BD29-E952D30486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F77A8-1DAE-4227-9639-4B033191749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DE69C-7D98-486B-973D-DDFF20C00E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D4E5B-5F9B-4FF5-A7FE-AD15838E2B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B8AE9-CB26-4758-A365-6F7EE94C43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3B6F9-E4D5-4D0B-85F3-67E1B86B3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5E35-9F53-4934-B08F-69070F01B4F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0D8EF-4303-4B58-994B-E7E8D7F4FD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88F15-A4E3-4995-831B-2372C83070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545BD-B8BF-4662-A2A6-D4A7D20AA4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37D0B-99E0-4649-B182-671577AABD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CE7D0-A23C-44AC-9FE3-042AC438F5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E5778-6C19-4F90-86E6-F1EBB163A8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90A73-86C2-4042-916D-6C68F5F25D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47605-23ED-48BE-A2AF-9A4225C6D2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275B9-0585-42FC-BCD6-E0C8E30DA0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1B072-8119-4E4F-AB8A-08BB163C5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E74D-D2C5-4F81-8CD4-C76307C15D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2A654-9054-41DB-9D13-D8CC42A2944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205DB-28B8-49AF-8482-7ADD3763D9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7F2F6-CCBB-40C6-8487-56911D45D3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73CB-4066-437F-AD86-67B07DDE8F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9378-6DFD-4977-82C4-878938F5A4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01D8-6E3C-43C6-B18B-72C3E68CFD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BF71-5498-46E5-A6B7-0CA9D2960D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A617-61F2-4D12-B71B-57C269C99A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37A22-7867-4FD7-8EDA-E0AEB184CE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48E4-893C-4BB2-B299-AD2C88A1A6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1859-E112-4A72-93A5-399E7769F4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D269-1E31-4217-AA62-28A05E382D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226D-A5B4-46A3-B460-1B64574EDE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BCE9-2C2B-4CD5-9AAE-41E45D31E6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6AF7-43C5-44DF-AC38-2A7571FA4A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6B3D-1273-4D57-91EC-B2517B17A6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4C125-1873-48D1-B176-1BBFCFAB77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3E2DD7-8C20-4197-9825-ABBF0187F9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F39BEC-51F2-4FC7-8E07-955A800E75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CDC82-EC15-4C47-A8F8-0CD2D5D6965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0BEDE-665B-4A93-BF47-9C92274D6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3CEB-8BF6-4E6C-8315-2D5CD0E96AB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6FA9F3-8A24-44AA-BB61-99F88D7A94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10732-7820-43BA-846D-FB26BEED966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FCC288-0056-428B-9B40-600B899EDC2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721452-A723-40D0-9AD4-190F83A6033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D8D963-0391-469D-B513-65DDD44D905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63644-54B4-40CF-9746-598976DA22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C8DA2-33CD-4335-90F8-FADCD90D2C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B0161-8DCF-4F66-9AF7-F30FC6B2BBF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E3F9E-CBEF-4A9A-BE25-8D2A8B073BC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6CC70-58D2-4D2C-8936-CA8ACA50F6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C8BA-E5B3-46F9-97CD-549AC2A1394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2D16C-36A8-4968-B14A-A383A6E90EC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2BF8C-8EE1-46E1-9265-E19D88AA176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744F1-7055-4456-BD02-8BAD8A145B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19A11-5A44-4CFC-839D-A84747A48BA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9CF6E-6632-483E-89D3-EE4A70544B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863BE-C766-49DE-8BD2-AC49DDBEA4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7F657-5817-4603-A3CE-43AD2D11DD0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5670C-1169-405B-8B28-546F0E7FCB0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F5A39-A587-468F-8A99-7B2BDDAC93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3DDE-8572-4BA8-ABEE-5C044DD6C6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B31C-5880-48B8-830E-85FEEC3EBF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9D95-DE3C-4420-8871-21A45B81C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89E4-1CB6-4D80-ADAE-1839A9B74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0D0D-F084-471F-8B29-84D6B5707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7DB5-5A49-48D9-81AA-728745C40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7957-1640-4F19-9607-411B7EA3B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D7F7-3A1E-48A9-99B9-A0AA4A960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013E-F41E-4B90-9C00-C5059A83D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52C-EAB7-46EE-A177-9E9FD8B22A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DF8-1B9D-40CE-A088-DF7B71B950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38B-64AA-4975-96AB-A97E5AC97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66B-2544-4A6F-A122-E753B08AA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301-7F01-4421-96E2-D7EFBB74D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695C-A012-44DC-8735-06878C1809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104-F456-46F5-A1C8-422498D39F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284-F374-47CF-93C4-32E8CB14C4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243-BDAC-43AE-90A1-425E52197B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231-1169-4B1E-989F-143C3487B3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79B-DD02-4215-8BEB-8A894B0EB5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B13-DA87-4E86-B9EE-266F255C18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02C-46BD-47C9-9F22-FD73A54F46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E3165-FA68-4A22-9E80-5C17ED1627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9F5AB-88F8-40B2-92BD-2889FBCCC2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A29D-14DC-478F-9581-7F098AC79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685A-E2E5-4F90-BD64-0C49C0DC45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E6789-D731-4741-9D1D-03D633266A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B3742-58F9-4538-92D8-82D9EC5A49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FE65-0B64-488B-9C69-842B1AA17F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6B23C-5FCF-4F93-8C5F-0A0D961B3C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EA5C7-D3E6-4C29-9425-07FA190951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F702C-0AB2-49F6-88D1-400FCA104C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2E87-7CE5-4036-9720-26283112C7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403BF-D248-4EE8-86E2-050158DA87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4999-3D85-4A7C-9E05-B5A46B65C88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1307-25EF-4D9D-90D1-A021DF267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EFF8-6E69-4DC9-AF6E-A94CBD000D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0864A-ACF3-4684-80D2-165D3F9CEC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7D44D-2E2E-49FE-8D0D-2FCCCAB2EE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6A61-7EF1-45CE-8711-A45C4BB5E0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B29E3-FFAF-47E9-BD60-E03F2D83E3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2BA6-2109-4670-939F-0BF4817DD3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44F5F-84DF-45DE-891F-09E2FEEC56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01A7A-73EF-4EEE-B868-9A116F2E6C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A3455-BD9B-434B-92A6-2347015419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7835-3933-4AAD-BFF3-4362A54B73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C125D-4781-4B1B-A1F9-7D7BE1279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DCCC-9B5E-4276-B4B0-479F38175A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D2DF-37F2-483C-8255-7EAEF55E10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E79-FB37-41A1-8AE5-C08EC1EE6E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4BE8-6F36-4E1C-B2A6-4076FFE7BB2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414-9134-4F1F-BB2D-B8A97D8907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70E-E347-4FB7-A3B2-8336240917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AEBA-47EE-410F-9567-B11CDF76EA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AE73-3945-45AA-9902-A2E1BB44B4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76D-2381-4270-B994-0CEA40065A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B36F-7DAC-44C5-B8C0-037DF624AE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32E-47C3-4070-BF78-5736D71BD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D9D4-0C48-4434-ADAD-6D53DF8A4A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57A5-71FA-4C03-A8C9-750331D5C4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D452-6EC0-42A1-BF88-809236F291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BA1-DF72-48D7-A9BC-DEC5062581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F879D-AA84-4CAA-9EDC-5AFBDBAD9F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34690-8865-4B16-ACE3-C521706830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6A8E7-9F9F-4E2A-9F07-6AD5F81128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4DD41-39B6-40CB-9119-F3D4A57905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F8A71-66FA-4E98-A416-BD7CE37A9A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3EA4E-6128-4888-9127-C1B82E0BC4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F8D00-D048-41A7-A7FD-1544EF307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424-D7BE-433A-B576-9A45F515A2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E2A76-4037-42FC-83D4-036A497AA8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1D78F-8E7E-420C-B7F6-F06E969F06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284DF-7CFF-4CCA-A7F6-A4B0C2A004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85E8A-1BB5-46D2-8CB4-F2F9D64C11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83033-AD01-407E-8809-F58792A92D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418B5-04F5-45C9-BCBF-0EC9DBF811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E0783-0541-49F9-A744-1177072508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0A893-AA68-426C-B6BA-1BCF9654C1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372BF-1E1E-4BFB-8FFE-88CCB024BE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5C41-2AE5-4E23-B47E-4E05C237A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BD99-5A84-4828-82B3-50878C1BCB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C3896-3BFD-411E-96D1-0B48E55F69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8BD85-38CA-42E1-8EBE-C289497BE7D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E3A1C-E516-4F81-A98B-35C725D3BA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9CEB4-3BD8-4104-B5A7-426FF8AC2C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BB8FB-EECC-4768-8830-2FB7E4FB61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AEBE-CAE3-4F91-8DC9-CFCE550979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AAE41-BD73-4796-A990-1DA01E9819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85AC-9848-4650-A726-BB42DCFF98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B51E-E9A4-4FD8-9246-CA0CC0D8B5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E977-41E7-448B-87C7-62C72A21D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F97-2535-466D-A658-63D3EAF858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4B8B-24E3-4EC5-9FC0-121E434AC9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C53C-41A2-456F-95ED-E75077558C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3B7-AB11-4693-A79B-CD36B30BCB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E6B6-3301-42BE-96CD-2783951531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033-814D-4675-93AF-D4663D727C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5A2-46E3-4E2B-9DF9-898FB386D1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0D16-DCC5-4D87-9100-A9817D181D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CBE2-CCCB-4797-A923-4BA63127CA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FBB-696B-49DA-8C07-9F999F2921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2FFC-AAD7-4ACF-8606-5832B5E3DD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4D08-7337-4B2B-A267-951EBB26BB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13C-C4FB-4257-BE33-2624C3D5C3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524-2852-4D6E-AC22-279CF3A0EE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search?q=1049/2001+site:.europa.eu&amp;hl=en&amp;num=10&amp;lr=lang_en&amp;ft=i&amp;cr=&amp;safe=images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uria.europa.eu/jcms/jcms/Jo2_14955/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curia.europa.eu/jcms/jcms/Jo2_7058/" TargetMode="Externa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lex.com/" TargetMode="External"/><Relationship Id="rId2" Type="http://schemas.openxmlformats.org/officeDocument/2006/relationships/hyperlink" Target="http://vlex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ur-lex.europa.eu/fr/index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shop.europa.eu/is-bin/INTERSHOP.enfinity/WFS/EU-Bookshop-Site/fr_FR/-/EUR/ViewPublication-Start?PublicationKey=OA8107147" TargetMode="External"/><Relationship Id="rId3" Type="http://schemas.openxmlformats.org/officeDocument/2006/relationships/hyperlink" Target="http://eur-lex.europa.eu/fr/index.htm" TargetMode="External"/><Relationship Id="rId4" Type="http://schemas.openxmlformats.org/officeDocument/2006/relationships/hyperlink" Target="https://e-justice.europa.eu/home.do?action=home&amp;lang=fr&amp;sufix=9" TargetMode="Externa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consilium.europa.eu/showPage.aspx?id=1296&amp;lang=FR" TargetMode="External"/><Relationship Id="rId4" Type="http://schemas.openxmlformats.org/officeDocument/2006/relationships/hyperlink" Target="http://europa.eu/about-eu/institutions-bodies/index_fr.htm" TargetMode="External"/><Relationship Id="rId5" Type="http://schemas.openxmlformats.org/officeDocument/2006/relationships/hyperlink" Target="http://ec.europa.eu/education/languages/languages-of-europe/doc135_fr.ht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europa.eu/press_room/mailing-rss/index_fr.htm" TargetMode="External"/><Relationship Id="rId6" Type="http://schemas.openxmlformats.org/officeDocument/2006/relationships/hyperlink" Target="http://europa.eu/rapid/syndication/setLanguage.do?language=fr" TargetMode="External"/><Relationship Id="rId7" Type="http://schemas.openxmlformats.org/officeDocument/2006/relationships/hyperlink" Target="http://twitter.com/#!/Europarl_FR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curia.europa.eu/jcms/jcms/Jo2_7053/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vepage.apple.com/" TargetMode="External"/><Relationship Id="rId3" Type="http://schemas.openxmlformats.org/officeDocument/2006/relationships/hyperlink" Target="http://www.consilium.europa.eu/showpage.aspx?id=1281&amp;lang=FR" TargetMode="External"/><Relationship Id="rId4" Type="http://schemas.openxmlformats.org/officeDocument/2006/relationships/hyperlink" Target="http://www.europarl.europa.eu/oeil/index.jsp?language=fr" TargetMode="External"/><Relationship Id="rId5" Type="http://schemas.openxmlformats.org/officeDocument/2006/relationships/hyperlink" Target="http://livepage.apple.com/" TargetMode="External"/><Relationship Id="rId6" Type="http://schemas.openxmlformats.org/officeDocument/2006/relationships/hyperlink" Target="http://ec.europa.eu/prelex/apcnet.cfm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ipex.eu/ipex/cms/home/links/lang/fr" TargetMode="External"/><Relationship Id="rId11" Type="http://schemas.openxmlformats.org/officeDocument/2006/relationships/hyperlink" Target="http://www.ipex.eu/ipex/cms/home" TargetMode="External"/><Relationship Id="rId12" Type="http://schemas.openxmlformats.org/officeDocument/2006/relationships/hyperlink" Target="http://www.europarl.europa.eu/parliament/public/staticDisplay.do?id=45&amp;pageRank=4&amp;language=FR" TargetMode="External"/><Relationship Id="rId13" Type="http://schemas.openxmlformats.org/officeDocument/2006/relationships/hyperlink" Target="http://www.europarl.europa.eu/parliament/public/staticDisplay.do?id=45&amp;pageRank=4&amp;language=FR" TargetMode="External"/><Relationship Id="rId14" Type="http://schemas.openxmlformats.org/officeDocument/2006/relationships/hyperlink" Target="http://www.statewatch.org/" TargetMode="External"/><Relationship Id="rId15" Type="http://schemas.openxmlformats.org/officeDocument/2006/relationships/hyperlink" Target="http://www.euractiv.fr/" TargetMode="External"/><Relationship Id="rId16" Type="http://schemas.openxmlformats.org/officeDocument/2006/relationships/hyperlink" Target="http://www.agenceurope.com/FR/index.html" TargetMode="External"/><Relationship Id="rId17" Type="http://schemas.openxmlformats.org/officeDocument/2006/relationships/hyperlink" Target="http://www.consilium.europa.eu/showPage.aspx?id=695&amp;lang=FR" TargetMode="External"/><Relationship Id="rId18" Type="http://schemas.openxmlformats.org/officeDocument/2006/relationships/hyperlink" Target="http://europa.eu/agencies/index_fr.htm" TargetMode="External"/><Relationship Id="rId19" Type="http://schemas.openxmlformats.org/officeDocument/2006/relationships/hyperlink" Target="http://ec.europa.eu/about/ds_fr.htm" TargetMode="External"/><Relationship Id="rId20" Type="http://schemas.openxmlformats.org/officeDocument/2006/relationships/hyperlink" Target="http://ec.europa.eu/competition/index_fr.html" TargetMode="External"/><Relationship Id="rId21" Type="http://schemas.openxmlformats.org/officeDocument/2006/relationships/hyperlink" Target="http://ec.europa.eu/dgs/secretariat_general/index_fr.htm" TargetMode="External"/><Relationship Id="rId2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nsilium.europa.eu/showPage.aspx?id=1322&amp;lang=FR" TargetMode="External"/><Relationship Id="rId3" Type="http://schemas.openxmlformats.org/officeDocument/2006/relationships/hyperlink" Target="http://eur-lex.europa.eu/LexUriServ/LexUriServ.do?uri=CELEX:32001R1049:FR:HTML" TargetMode="External"/><Relationship Id="rId4" Type="http://schemas.openxmlformats.org/officeDocument/2006/relationships/hyperlink" Target="http://eur-lex.europa.eu/fr/editorial/registre.htm" TargetMode="External"/><Relationship Id="rId5" Type="http://schemas.openxmlformats.org/officeDocument/2006/relationships/hyperlink" Target="http://www.eui.eu/Research/ArchivesHistoriquesDeUE/AProposDesArchives/Index.aspx" TargetMode="External"/><Relationship Id="rId6" Type="http://schemas.openxmlformats.org/officeDocument/2006/relationships/hyperlink" Target="http://www.google.com/search?q=1049/2001+site:.europa.eu&amp;hl=en&amp;num=10&amp;lr=lang_en&amp;ft=i&amp;cr=&amp;safe=images" TargetMode="External"/><Relationship Id="rId7" Type="http://schemas.openxmlformats.org/officeDocument/2006/relationships/hyperlink" Target="http://curia.europa.eu/jcms/jcms/Jo2_17661" TargetMode="External"/><Relationship Id="rId8" Type="http://schemas.openxmlformats.org/officeDocument/2006/relationships/hyperlink" Target="http://eur-lex.europa.eu/JURISIndex.do?ihmlang=fr" TargetMode="External"/><Relationship Id="rId9" Type="http://schemas.openxmlformats.org/officeDocument/2006/relationships/hyperlink" Target="http://eur-lex.europa.eu/fr/index.htm" TargetMode="External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fr/editorial/registre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uroparl.europa.eu/RegWeb/application/registre/advancedSearch.faces" TargetMode="External"/><Relationship Id="rId4" Type="http://schemas.openxmlformats.org/officeDocument/2006/relationships/hyperlink" Target="http://www.consilium.europa.eu/showpage.aspx?id=549&amp;lang=FR" TargetMode="External"/><Relationship Id="rId5" Type="http://schemas.openxmlformats.org/officeDocument/2006/relationships/hyperlink" Target="http://ec.europa.eu/transparency/regdoc/recherche.cfm?CL=en" TargetMode="External"/><Relationship Id="rId6" Type="http://schemas.openxmlformats.org/officeDocument/2006/relationships/hyperlink" Target="http://ec.europa.eu/transparency/regcomitology/index.cfm" TargetMode="External"/><Relationship Id="rId7" Type="http://schemas.openxmlformats.org/officeDocument/2006/relationships/hyperlink" Target="http://ec.europa.eu/transparency/regcomitology/index.cfm?do=Request.Request" TargetMode="External"/><Relationship Id="rId8" Type="http://schemas.openxmlformats.org/officeDocument/2006/relationships/hyperlink" Target="http://ec.europa.eu/transparency/regcomitology/index.cfm?do=List.list&amp;NewSearch=1" TargetMode="External"/><Relationship Id="rId9" Type="http://schemas.openxmlformats.org/officeDocument/2006/relationships/hyperlink" Target="https://www.secure.europarl.europa.eu/RegWeb/application/registre/secured/requestDoc.faces?language=fr" TargetMode="External"/><Relationship Id="rId10" Type="http://schemas.openxmlformats.org/officeDocument/2006/relationships/hyperlink" Target="http://www.consilium.europa.eu/showPage.aspx?id=305&amp;lang=FR" TargetMode="External"/><Relationship Id="rId11" Type="http://schemas.openxmlformats.org/officeDocument/2006/relationships/hyperlink" Target="http://ec.europa.eu/transparency/access_documents/index_en.htm" TargetMode="External"/><Relationship Id="rId12" Type="http://schemas.openxmlformats.org/officeDocument/2006/relationships/hyperlink" Target="http://www.ombudsman.europa.eu/home/FR/default.htm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search?q=1049/2001+site:.europa.eu&amp;hl=en&amp;num=10&amp;lr=lang_en&amp;ft=i&amp;cr=&amp;safe=images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search?q=1049/2001+site:.europa.eu&amp;hl=en&amp;num=10&amp;lr=lang_en&amp;ft=i&amp;cr=&amp;safe=images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uria.europa.eu/jcms/jcms/j_6/" TargetMode="External"/><Relationship Id="rId4" Type="http://schemas.openxmlformats.org/officeDocument/2006/relationships/hyperlink" Target="http://eur-lex.europa.eu/JURISIndex.do?ihmlang=fr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818C-9BD1-4804-9424-2BA8F07F3D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Verdana Bold"/>
                <a:ea typeface="Verdana Bold"/>
              </a:rPr>
              <a:t>Juriconnexion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Journée 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études annuelle de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ssoci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30-11-201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41440"/>
            <a:ext cx="10464840" cy="234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 Bold"/>
                <a:ea typeface="Verdana Bold"/>
              </a:rPr>
              <a:t>Recherche d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Verdana Bold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Verdana Bold"/>
                <a:ea typeface="Verdana Bold"/>
              </a:rPr>
              <a:t>information légale et juridiqu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 Bold"/>
                <a:ea typeface="Verdana Bold"/>
              </a:rPr>
              <a:t>peut-on tout trouver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 Bold"/>
                <a:ea typeface="Verdana Bold"/>
              </a:rPr>
              <a:t>Qu'en est-il pour 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  <a:ea typeface="Verdana Bold"/>
              </a:rPr>
              <a:t>’</a:t>
            </a:r>
            <a:r>
              <a:rPr b="1" lang="en-US" sz="3200" spc="-1" strike="noStrike">
                <a:solidFill>
                  <a:srgbClr val="0000ff"/>
                </a:solidFill>
                <a:latin typeface="Verdana Bold"/>
                <a:ea typeface="Verdana Bold"/>
              </a:rPr>
              <a:t>Union européenn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114480" y="152280"/>
            <a:ext cx="93960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3A0-9CBC-443C-9ACB-942C9CD8BC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Les moteurs de recherche internes et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autr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15" name="ZoneTexte 5"/>
          <p:cNvSpPr/>
          <p:nvPr/>
        </p:nvSpPr>
        <p:spPr>
          <a:xfrm>
            <a:off x="2038320" y="1781280"/>
            <a:ext cx="907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Jurisprudence historique 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sur CUR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6" name="Image 4" descr="Capture d’écran 2010-11-29 à 12.03.18.png"/>
          <p:cNvPicPr/>
          <p:nvPr/>
        </p:nvPicPr>
        <p:blipFill>
          <a:blip r:embed="rId4"/>
          <a:stretch/>
        </p:blipFill>
        <p:spPr>
          <a:xfrm>
            <a:off x="1600200" y="2550960"/>
            <a:ext cx="9791640" cy="6718320"/>
          </a:xfrm>
          <a:prstGeom prst="rect">
            <a:avLst/>
          </a:prstGeom>
          <a:ln w="0">
            <a:noFill/>
          </a:ln>
        </p:spPr>
      </p:pic>
      <p:sp>
        <p:nvSpPr>
          <p:cNvPr id="617" name="ZoneTexte 1"/>
          <p:cNvSpPr/>
          <p:nvPr/>
        </p:nvSpPr>
        <p:spPr>
          <a:xfrm>
            <a:off x="8805960" y="18842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(renouveau prévu en 2011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ZoneTexte 1"/>
          <p:cNvSpPr/>
          <p:nvPr/>
        </p:nvSpPr>
        <p:spPr>
          <a:xfrm>
            <a:off x="8734320" y="8477280"/>
            <a:ext cx="3672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Voir aussi 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bibliothèque</a:t>
            </a: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0480-ED33-4CEC-90FC-B6E7D1F227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Verdana Bold"/>
                <a:ea typeface="Verdana Bold"/>
                <a:hlinkClick r:id="rId1"/>
              </a:rPr>
              <a:t>V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Verdana Bold"/>
                <a:ea typeface="Verdana Bold"/>
                <a:hlinkClick r:id="rId2"/>
              </a:rPr>
              <a:t>lex</a:t>
            </a: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:  un moteur externe parmi d’autr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3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pic>
        <p:nvPicPr>
          <p:cNvPr id="622" name="Image 1" descr="V-Lex.png"/>
          <p:cNvPicPr/>
          <p:nvPr/>
        </p:nvPicPr>
        <p:blipFill>
          <a:blip r:embed="rId4"/>
          <a:stretch/>
        </p:blipFill>
        <p:spPr>
          <a:xfrm>
            <a:off x="76320" y="2076480"/>
            <a:ext cx="128523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96F-0876-45FC-A826-953C82A865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EUR-Lex </a:t>
            </a: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une refondation en 2011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26" name="ZoneTexte 1"/>
          <p:cNvSpPr/>
          <p:nvPr/>
        </p:nvSpPr>
        <p:spPr>
          <a:xfrm>
            <a:off x="380880" y="1852560"/>
            <a:ext cx="12242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Recherche plus efficace, simple, avancée ou experte (metadonnées plus rich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Recherche en texte intégral dans le J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Suivi du cycle de vie des propositions législatives avec contex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Liens avec les registres des institutions (cf. « Trans-JAI » 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Mesures nationales ou communautaires (« MNE… ») et jurisprudence associé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Transposit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Textes consolidé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Notifications thématiq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"/>
              </a:rPr>
              <a:t>Formats réutilis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Gill Sans"/>
              </a:rPr>
              <a:t>Force probante de la version en ligne des actes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Gill Sans"/>
              </a:rPr>
              <a:t>Open data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Gill Sans"/>
              </a:rPr>
              <a:t>Plus participatif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FD2-A7EF-4F35-976A-81FCB9C65A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Référenc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30" name="ZoneTexte 1"/>
          <p:cNvSpPr/>
          <p:nvPr/>
        </p:nvSpPr>
        <p:spPr>
          <a:xfrm>
            <a:off x="309600" y="1636560"/>
            <a:ext cx="12385800" cy="82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"/>
              </a:rPr>
              <a:t>Des liv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L'ABC du droit de l'Union européenn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(ISBN: 978-92-78-40527-4), un bref survol, gratui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Droit institutionnel de l’Union européenne, Jean Paul Jacqué, 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Gill Sans"/>
              </a:rPr>
              <a:t>ièm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édition, Dalloz, 750 p., 29 eur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"/>
              </a:rPr>
              <a:t>Des si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EUR-Lex 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l’accès au droit de l’UE, le point centr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e-Justice 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portail avec différents profils: « citoyens, entreprises, magistrature, praticiens du droit »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EU Bookshop publications sur le thème droit et justi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European Forum of Official Gazet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N-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Eurovoc , thésaurus multiling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TED , marchés publics et SI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EU Who’s who , annuai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Autres: Toute l’Europe, EurAc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3EC-6946-4D7D-A9DC-EEBD8BA00D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34" name="ZoneTexte 1"/>
          <p:cNvSpPr/>
          <p:nvPr/>
        </p:nvSpPr>
        <p:spPr>
          <a:xfrm>
            <a:off x="380880" y="2428920"/>
            <a:ext cx="1216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</a:rPr>
              <a:t>Merci de votre atten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</a:rPr>
              <a:t>Revoir la présentation et activer ses liens su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ttp://fr.calameo.com/accounts/4098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ttp://www.slideshare.net/jacques.raybau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</a:rPr>
              <a:t>Vos question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</a:rPr>
              <a:t>Vos message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jacques.raybaut@gmail.c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ttp://europa-eu-audience.typepad.com   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497A-436F-44A6-91A0-47432858ED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«Triangle législatif» (1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65240" y="127080"/>
            <a:ext cx="939600" cy="1282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2"/>
          <a:stretch/>
        </p:blipFill>
        <p:spPr>
          <a:xfrm>
            <a:off x="4125960" y="2428920"/>
            <a:ext cx="4825800" cy="2235240"/>
          </a:xfrm>
          <a:prstGeom prst="rect">
            <a:avLst/>
          </a:prstGeom>
          <a:ln w="0">
            <a:noFill/>
          </a:ln>
        </p:spPr>
      </p:pic>
      <p:sp>
        <p:nvSpPr>
          <p:cNvPr id="547" name="ZoneTexte 1"/>
          <p:cNvSpPr/>
          <p:nvPr/>
        </p:nvSpPr>
        <p:spPr>
          <a:xfrm>
            <a:off x="598320" y="5956200"/>
            <a:ext cx="11952360" cy="36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Traité de Lisbon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Autres institutions et organ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ill Sans"/>
              </a:rPr>
              <a:t>23 </a:t>
            </a:r>
            <a:r>
              <a:rPr b="0" lang="fr-FR" sz="44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langues officielles</a:t>
            </a:r>
            <a:r>
              <a:rPr b="0" lang="fr-FR" sz="4400" spc="-1" strike="noStrike">
                <a:solidFill>
                  <a:srgbClr val="000000"/>
                </a:solidFill>
                <a:latin typeface="Gill Sans"/>
              </a:rPr>
              <a:t>, 3 alphabets mais…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4879800" y="1636560"/>
            <a:ext cx="327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mmi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1273680" y="4013280"/>
            <a:ext cx="278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rle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9155880" y="4084560"/>
            <a:ext cx="200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nsei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4A5-AD78-41F0-8932-825DC10929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4880"/>
            <a:ext cx="1046484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«Triangle législatif» (2): un </a:t>
            </a:r>
            <a:r>
              <a:rPr b="1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survo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14480" y="1144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8710920" y="5041440"/>
            <a:ext cx="182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nsei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897200" y="4990680"/>
            <a:ext cx="2600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rle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4952880" y="2975400"/>
            <a:ext cx="309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mmi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9385200" y="5672160"/>
            <a:ext cx="482760" cy="482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2959200" y="5722920"/>
            <a:ext cx="482400" cy="482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6222960" y="3809880"/>
            <a:ext cx="558720" cy="52092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9"/>
          <p:cNvSpPr/>
          <p:nvPr/>
        </p:nvSpPr>
        <p:spPr>
          <a:xfrm>
            <a:off x="601560" y="5740560"/>
            <a:ext cx="520704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6045120" y="5873760"/>
            <a:ext cx="71629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ZoneTexte 1"/>
          <p:cNvSpPr/>
          <p:nvPr/>
        </p:nvSpPr>
        <p:spPr>
          <a:xfrm>
            <a:off x="1893960" y="6676920"/>
            <a:ext cx="921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a veil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Listes de diffusion et flux RSS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(salle de press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Communiqués de presse RAPID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(salle de press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Parlement européen … (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7"/>
              </a:rPr>
              <a:t>Twitter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ZoneTexte 13"/>
          <p:cNvSpPr/>
          <p:nvPr/>
        </p:nvSpPr>
        <p:spPr>
          <a:xfrm>
            <a:off x="2109960" y="1996920"/>
            <a:ext cx="89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Gill Sans"/>
              </a:rPr>
              <a:t>Tout trouver ? Quoi trouver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B20F-A84F-4473-858C-D37836EC1F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164880"/>
            <a:ext cx="10464840" cy="197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«Triangle législatif» et Cour de Justice (2): un </a:t>
            </a:r>
            <a:r>
              <a:rPr b="1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survo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14480" y="1144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8710920" y="5041440"/>
            <a:ext cx="182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nsei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897200" y="4990680"/>
            <a:ext cx="2600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rle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4952880" y="2975400"/>
            <a:ext cx="309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mmiss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0" name="Picture 6" descr=""/>
          <p:cNvPicPr/>
          <p:nvPr/>
        </p:nvPicPr>
        <p:blipFill>
          <a:blip r:embed="rId2"/>
          <a:stretch/>
        </p:blipFill>
        <p:spPr>
          <a:xfrm>
            <a:off x="9385200" y="5672160"/>
            <a:ext cx="482760" cy="482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3"/>
          <a:stretch/>
        </p:blipFill>
        <p:spPr>
          <a:xfrm>
            <a:off x="2959200" y="5722920"/>
            <a:ext cx="482400" cy="48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4"/>
          <a:stretch/>
        </p:blipFill>
        <p:spPr>
          <a:xfrm>
            <a:off x="6222960" y="3809880"/>
            <a:ext cx="558720" cy="520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601560" y="5740560"/>
            <a:ext cx="520704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6045120" y="5873760"/>
            <a:ext cx="71629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ZoneTexte 1"/>
          <p:cNvSpPr/>
          <p:nvPr/>
        </p:nvSpPr>
        <p:spPr>
          <a:xfrm>
            <a:off x="1893960" y="7399440"/>
            <a:ext cx="9217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Cour de Justic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service aux medias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6" name="Image 2" descr="Capture d’écran 2010-11-26 à 16.10.20.png"/>
          <p:cNvPicPr/>
          <p:nvPr/>
        </p:nvPicPr>
        <p:blipFill>
          <a:blip r:embed="rId6"/>
          <a:stretch/>
        </p:blipFill>
        <p:spPr>
          <a:xfrm>
            <a:off x="5925960" y="6245280"/>
            <a:ext cx="1194120" cy="1270080"/>
          </a:xfrm>
          <a:prstGeom prst="rect">
            <a:avLst/>
          </a:prstGeom>
          <a:ln w="0">
            <a:noFill/>
          </a:ln>
        </p:spPr>
      </p:pic>
      <p:pic>
        <p:nvPicPr>
          <p:cNvPr id="577" name="Image 3" descr="Consilium.png"/>
          <p:cNvPicPr/>
          <p:nvPr/>
        </p:nvPicPr>
        <p:blipFill>
          <a:blip r:embed="rId7"/>
          <a:stretch/>
        </p:blipFill>
        <p:spPr>
          <a:xfrm>
            <a:off x="10463040" y="5021280"/>
            <a:ext cx="1879920" cy="1130400"/>
          </a:xfrm>
          <a:prstGeom prst="rect">
            <a:avLst/>
          </a:prstGeom>
          <a:ln w="0">
            <a:noFill/>
          </a:ln>
        </p:spPr>
      </p:pic>
      <p:pic>
        <p:nvPicPr>
          <p:cNvPr id="578" name="Image 4" descr="Europarl.png"/>
          <p:cNvPicPr/>
          <p:nvPr/>
        </p:nvPicPr>
        <p:blipFill>
          <a:blip r:embed="rId8"/>
          <a:stretch/>
        </p:blipFill>
        <p:spPr>
          <a:xfrm>
            <a:off x="741240" y="5164200"/>
            <a:ext cx="1287720" cy="906480"/>
          </a:xfrm>
          <a:prstGeom prst="rect">
            <a:avLst/>
          </a:prstGeom>
          <a:ln w="0">
            <a:noFill/>
          </a:ln>
        </p:spPr>
      </p:pic>
      <p:pic>
        <p:nvPicPr>
          <p:cNvPr id="579" name="Image 5" descr="Capture d’écran 2010-11-26 à 16.57.13.png"/>
          <p:cNvPicPr/>
          <p:nvPr/>
        </p:nvPicPr>
        <p:blipFill>
          <a:blip r:embed="rId9"/>
          <a:stretch/>
        </p:blipFill>
        <p:spPr>
          <a:xfrm>
            <a:off x="3765600" y="2428920"/>
            <a:ext cx="53211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6B8-06DD-4B19-A3EE-855D55D674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1425320" cy="119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«Triangle législatif»: un </a:t>
            </a:r>
            <a:r>
              <a:rPr b="1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suivi</a:t>
            </a: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, 3 approches (3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01520" y="139680"/>
            <a:ext cx="939960" cy="12826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>
            <a:hlinkClick r:id="rId2"/>
          </p:cNvPr>
          <p:cNvSpPr/>
          <p:nvPr/>
        </p:nvSpPr>
        <p:spPr>
          <a:xfrm>
            <a:off x="6237360" y="5092560"/>
            <a:ext cx="676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nseil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3"/>
              </a:rPr>
              <a:t>Transparence législative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827720" y="4983840"/>
            <a:ext cx="273924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rlement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4"/>
              </a:rPr>
              <a:t>OEIL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)*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Rectangle 5">
            <a:hlinkClick r:id="rId5"/>
          </p:cNvPr>
          <p:cNvSpPr/>
          <p:nvPr/>
        </p:nvSpPr>
        <p:spPr>
          <a:xfrm>
            <a:off x="3406680" y="2789280"/>
            <a:ext cx="627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ommission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6"/>
              </a:rPr>
              <a:t>PreLex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7"/>
          <a:stretch/>
        </p:blipFill>
        <p:spPr>
          <a:xfrm>
            <a:off x="9385200" y="6316560"/>
            <a:ext cx="482760" cy="482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8"/>
          <a:stretch/>
        </p:blipFill>
        <p:spPr>
          <a:xfrm>
            <a:off x="2959200" y="6464160"/>
            <a:ext cx="482400" cy="482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"/>
          <p:cNvPicPr/>
          <p:nvPr/>
        </p:nvPicPr>
        <p:blipFill>
          <a:blip r:embed="rId9"/>
          <a:stretch/>
        </p:blipFill>
        <p:spPr>
          <a:xfrm>
            <a:off x="6222960" y="4068720"/>
            <a:ext cx="558720" cy="5209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9"/>
          <p:cNvSpPr/>
          <p:nvPr/>
        </p:nvSpPr>
        <p:spPr>
          <a:xfrm>
            <a:off x="601560" y="6892920"/>
            <a:ext cx="5207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0"/>
              </a:rPr>
              <a:t>Parlements nationau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1"/>
              </a:rPr>
              <a:t>IP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2"/>
              </a:rPr>
              <a:t>Groupes*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3"/>
              </a:rPr>
              <a:t> 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s politiq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été civile*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4"/>
              </a:rPr>
              <a:t>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5"/>
              </a:rPr>
              <a:t>EurAct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6"/>
              </a:rPr>
              <a:t>AgenceEur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(paya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6045120" y="70549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7"/>
              </a:rPr>
              <a:t>Présidences</a:t>
            </a:r>
            <a:r>
              <a:rPr b="0" lang="en-US" sz="2400" spc="-1" strike="noStrike" u="sng">
                <a:solidFill>
                  <a:srgbClr val="0044fe"/>
                </a:solidFill>
                <a:uFillTx/>
                <a:latin typeface="Arial"/>
                <a:ea typeface="ＭＳ Ｐゴシック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s nationales et loc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3354840" y="1579320"/>
            <a:ext cx="628596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18"/>
              </a:rPr>
              <a:t>Ag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19"/>
              </a:rPr>
              <a:t>DG de la Commiss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exempl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20"/>
              </a:rPr>
              <a:t>Concurr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ＭＳ Ｐゴシック"/>
                <a:hlinkClick r:id="rId21"/>
              </a:rPr>
              <a:t>Secrétariat génér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ZoneTexte 1"/>
          <p:cNvSpPr/>
          <p:nvPr/>
        </p:nvSpPr>
        <p:spPr>
          <a:xfrm>
            <a:off x="7007400" y="90536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Gill Sans"/>
              </a:rPr>
              <a:t> Service avec notification (RSS, Twitter …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AE23-30F2-44CF-B66B-B089F29334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ヒラギノ角ゴ ProN W6"/>
              </a:rPr>
              <a:t>Peut-on tout trouver? </a:t>
            </a:r>
            <a:r>
              <a:rPr b="1" lang="en-US" sz="3600" spc="-1" strike="noStrike">
                <a:solidFill>
                  <a:srgbClr val="000000"/>
                </a:solidFill>
                <a:latin typeface="Verdana Bold"/>
                <a:ea typeface="ヒラギノ角ゴ ProN W6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596" name="ZoneTexte 1"/>
          <p:cNvSpPr/>
          <p:nvPr/>
        </p:nvSpPr>
        <p:spPr>
          <a:xfrm>
            <a:off x="380880" y="2428920"/>
            <a:ext cx="12169800" cy="63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« Triangle législatif »: survo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Jurisprudence: surv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Suivi des procédures législativ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La transparence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 (règlement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1049/2001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es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registres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 des documents et leurs limi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es bibliothèques des institutions et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archives historiq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es moteurs de recherche internes et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aut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a recherche de la jurisprudence: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7"/>
              </a:rPr>
              <a:t>Curia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8"/>
              </a:rPr>
              <a:t>EUR-Lex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, aut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9"/>
              </a:rPr>
              <a:t>EUR-Lex 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(accès au droit de l’UE) une refondation en 201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Références: livres et si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Coordonnées de la présentation en lign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EE16-5CE0-474E-8696-3E20A7B2CE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registres</a:t>
            </a: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 des documents et leurs limi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00" name="ZoneTexte 1"/>
          <p:cNvSpPr/>
          <p:nvPr/>
        </p:nvSpPr>
        <p:spPr>
          <a:xfrm>
            <a:off x="453960" y="2644920"/>
            <a:ext cx="120967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"/>
              </a:rPr>
              <a:t>Parlement: </a:t>
            </a:r>
            <a:r>
              <a:rPr b="1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registr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"/>
              </a:rPr>
              <a:t>Conseil: </a:t>
            </a:r>
            <a:r>
              <a:rPr b="1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registr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le plus pratique mais perfectible (pas de notification thématiqu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"/>
              </a:rPr>
              <a:t>Commission: </a:t>
            </a:r>
            <a:r>
              <a:rPr b="1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regist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"/>
              </a:rPr>
              <a:t>Commission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: registre de la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comitologi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.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7"/>
              </a:rPr>
              <a:t>Demande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 de document. Rechercher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8"/>
              </a:rPr>
              <a:t>un comité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Mais bon nombre de documents telles que les études ne sont pas accessi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Pas d’accès croisé sur une base thémati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Ne pas hésiter à demander … exemple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9"/>
              </a:rPr>
              <a:t>au Parlement 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10"/>
              </a:rPr>
              <a:t>au Conseil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11"/>
              </a:rPr>
              <a:t>à la Commi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Autres moyens …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Gill Sans"/>
                <a:hlinkClick r:id="rId12"/>
              </a:rPr>
              <a:t>médiateur européen</a:t>
            </a:r>
            <a:r>
              <a:rPr b="0" lang="fr-FR" sz="2400" spc="-1" strike="noStrike">
                <a:solidFill>
                  <a:srgbClr val="000000"/>
                </a:solidFill>
                <a:latin typeface="Gill Sans"/>
              </a:rPr>
              <a:t>, au Tribunal, aux bibliothèques…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1D7-73FE-4604-9E67-FBDF32404B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Les moteurs de recherche internes et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autr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pic>
        <p:nvPicPr>
          <p:cNvPr id="604" name="Image 1" descr="google-adv-search.png"/>
          <p:cNvPicPr/>
          <p:nvPr/>
        </p:nvPicPr>
        <p:blipFill>
          <a:blip r:embed="rId3"/>
          <a:stretch/>
        </p:blipFill>
        <p:spPr>
          <a:xfrm>
            <a:off x="0" y="2560680"/>
            <a:ext cx="13004640" cy="6419880"/>
          </a:xfrm>
          <a:prstGeom prst="rect">
            <a:avLst/>
          </a:prstGeom>
          <a:ln w="0">
            <a:noFill/>
          </a:ln>
        </p:spPr>
      </p:pic>
      <p:sp>
        <p:nvSpPr>
          <p:cNvPr id="605" name="ZoneTexte 1"/>
          <p:cNvSpPr/>
          <p:nvPr/>
        </p:nvSpPr>
        <p:spPr>
          <a:xfrm>
            <a:off x="2038320" y="1708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"/>
              </a:rPr>
              <a:t>Moteurs de recherche interne ?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3"/>
          <p:cNvSpPr/>
          <p:nvPr/>
        </p:nvSpPr>
        <p:spPr>
          <a:xfrm>
            <a:off x="6324480" y="92584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5AF-AA9C-4ED8-B7AD-F50168DA29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 Bold"/>
                <a:ea typeface="Verdana Bold"/>
              </a:rPr>
              <a:t>Juriconnexion et U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"/>
              </a:rPr>
              <a:t>Les moteurs de recherche internes et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autr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939600" cy="1282680"/>
          </a:xfrm>
          <a:prstGeom prst="rect">
            <a:avLst/>
          </a:prstGeom>
          <a:ln w="0">
            <a:noFill/>
          </a:ln>
        </p:spPr>
      </p:pic>
      <p:sp>
        <p:nvSpPr>
          <p:cNvPr id="609" name="ZoneTexte 5"/>
          <p:cNvSpPr/>
          <p:nvPr/>
        </p:nvSpPr>
        <p:spPr>
          <a:xfrm>
            <a:off x="2038320" y="1781280"/>
            <a:ext cx="907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Jurisprudence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 sur CURIA (et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EUR-Lex</a:t>
            </a:r>
            <a:r>
              <a:rPr b="0" lang="fr-FR" sz="3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Image 1" descr="Curia-recherche-affaire.png"/>
          <p:cNvPicPr/>
          <p:nvPr/>
        </p:nvPicPr>
        <p:blipFill>
          <a:blip r:embed="rId5"/>
          <a:stretch/>
        </p:blipFill>
        <p:spPr>
          <a:xfrm>
            <a:off x="453960" y="2860560"/>
            <a:ext cx="7137360" cy="5473800"/>
          </a:xfrm>
          <a:prstGeom prst="rect">
            <a:avLst/>
          </a:prstGeom>
          <a:ln w="0">
            <a:noFill/>
          </a:ln>
        </p:spPr>
      </p:pic>
      <p:pic>
        <p:nvPicPr>
          <p:cNvPr id="611" name="Image 2" descr="Curia-Menu-Juris.png"/>
          <p:cNvPicPr/>
          <p:nvPr/>
        </p:nvPicPr>
        <p:blipFill>
          <a:blip r:embed="rId6"/>
          <a:stretch/>
        </p:blipFill>
        <p:spPr>
          <a:xfrm>
            <a:off x="7726320" y="2500200"/>
            <a:ext cx="50212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acques Raybaut</cp:lastModifiedBy>
  <dcterms:modified xsi:type="dcterms:W3CDTF">2010-12-01T08:40:26Z</dcterms:modified>
  <cp:revision>48</cp:revision>
  <dc:subject/>
  <dc:title>Juriconnexion  Journée d’études annuelle de l’association 30-11-2010</dc:title>
</cp:coreProperties>
</file>